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B3B-2885-4A19-A301-DBA6DFAB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632-9975-40C5-A381-F15920F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E16-1040-41EC-AA7F-521E0FB2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EB9-9F7E-41C8-B1C5-7C0F8A2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D6A-7B5D-42D5-8B98-1F106419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116-63AD-440A-B47C-46799ED1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4772-5019-4A55-9EDA-95444DF2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2CE-9FE0-4CA8-A587-B3C2B635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67D-B3E6-4EF1-A8AE-3F8C23EB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7211-6966-464E-8517-35175BD3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D50D-DC4B-49AD-9BFC-665F39BE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4B4-E1AA-48E4-AE83-D3EAC5D4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F43-3B47-4D89-990D-2F031D0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557-A26F-48D0-95CA-9E360C2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571B-069B-4988-A65B-FB792BD7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0EE5-67E0-4CFD-B3E7-F360E9A7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5B87-78A6-4AD5-B24A-875B71C9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250-48C5-4155-A399-FC77B8DF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EB3-420A-4446-B155-7DC10E7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5F0-015C-4463-80ED-2D159731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791-DEC5-4E8B-A4D3-1FF3C726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0E5-0FD6-4FDE-92CE-65A7829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B15-CC8B-4B7E-9A7A-55C81C19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BDE-57C7-4A9F-87C6-2BFD041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2FF-78E3-4F6F-ACEC-D716AFA1B09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76D-3B56-4E1F-B162-3EE00B5C16B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000000"/>
                </a:solidFill>
                <a:latin typeface="Arial"/>
                <a:ea typeface="標楷體"/>
              </a:rPr>
              <a:t>數位媒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19700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第一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　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25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林冠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26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林育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34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佩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97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楊世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98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儒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106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李旻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16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廖雅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97G0085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陳孝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Arial"/>
                <a:ea typeface="標楷體"/>
              </a:rPr>
              <a:t>摘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數位媒介普及的優點及缺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如何盡量不使用電腦求學知識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數位媒介求知與傳統媒介求知有什麼差別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廣播以及電影沒有被電視取代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未來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年後的傳播媒介會是什麼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數位媒介的普及針對大學生來說優點及缺點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優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做報告時會節省很多時間，例如：搜尋資料時會更快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接收資訊會更方便，不在是一昧的透過報紙的傳遞來獲得新資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缺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容易患上因長期使用電腦的症狀，如脊椎彎曲，視力不好等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會使得人與人之間的疏遠，因人人都只會在通訊軟體聊天，反而缺乏了與人溝通的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有電腦的情況下，如何盡量不使用電腦求學知識呢？數位媒介求知與傳統媒介求知有什麼差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使用傳統媒介與數位媒介，各有優缺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傳統媒介的資訊較為正確，數位媒介的資訊較為快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所以在查詢資料的時候盡量兩者兼具使用會使得報告完整度更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請小組討論為什麼廣播以及電影沒有被電視取代的原因？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電影與廣播皆有自己的特定族群存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電影可以帶來電視無法享受到的聲光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廣播則是開車族在長途跋涉的時候最佳伴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所以有些東西還是電視無法帶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後的今天，只要一隻手機就可以知道任何事情，也可以即時的知道附近有什麼最新的活動、路況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傳播方式也將全面的圖像化，取代現在的文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小組試著構思未來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後的傳播媒介會是什麼？以什麼樣子的方式傳播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000000"/>
                </a:solidFill>
                <a:latin typeface="Arial"/>
                <a:ea typeface="標楷體"/>
              </a:rPr>
              <a:t>Ｑ　＆　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2:02:29Z</dcterms:created>
  <dc:creator>Win7User</dc:creator>
  <dc:description/>
  <dc:language>en-US</dc:language>
  <cp:lastModifiedBy>Win7User</cp:lastModifiedBy>
  <dcterms:modified xsi:type="dcterms:W3CDTF">2011-12-26T12:24:25Z</dcterms:modified>
  <cp:revision>2</cp:revision>
  <dc:subject/>
  <dc:title>數位媒介</dc:title>
</cp:coreProperties>
</file>