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29F-3223-461C-8963-0AD0F52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4EB-465D-45C9-8113-44BCB57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124-BAA8-4DF5-9285-12CF3309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00D-35FA-4F9C-B7A3-C726F4C5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477-EC35-4C3C-B761-06F7BEE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B1A4-94D2-4F6D-BD46-678F115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DC3C-3840-4214-BF60-EDC5EC2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CE33-6A82-4A52-8510-7A58245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1DAF-7E43-4F5B-ACDB-879BEEC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014B-3843-4B17-82E2-932DDF1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539F-11F4-41BD-BCD3-B52BEB5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799-C748-4198-A58A-91773B7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4789-1EC8-467D-BF23-A5FF5D8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758-DBB7-46BD-9934-76DCAA1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FE1-FFC2-4CFF-A0A7-CF3B483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E4E-B592-421B-882A-56D0360A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8CB-495E-4223-ADA7-445BA50C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B9D-C91E-4F1E-AAE7-0BB380E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3EF-CFEB-43DF-BE2A-4A2F2748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03B-370D-4018-9AB9-18DB33F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740-EBA8-4AB6-A216-B0DF27E2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E0D-225B-40B3-927E-0B106A6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32D-F982-4935-ABEE-0A26723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258-DB63-46ED-8085-968BA04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CFD-7F68-4215-A986-34A4C5A38A9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AE2-FC8E-4199-BCDE-1468DB1A252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teacher.edu.tw/Read.aspx?PostID=21" TargetMode="External"/><Relationship Id="rId2" Type="http://schemas.openxmlformats.org/officeDocument/2006/relationships/hyperlink" Target="http://eteacher.edu.tw/Read.aspx?PostID=21" TargetMode="External"/><Relationship Id="rId3" Type="http://schemas.openxmlformats.org/officeDocument/2006/relationships/hyperlink" Target="http://eteacher.edu.tw/Read.aspx?PostID=21" TargetMode="External"/><Relationship Id="rId4" Type="http://schemas.openxmlformats.org/officeDocument/2006/relationships/hyperlink" Target="http://www.drkao.com/paper/paper-6.htm" TargetMode="External"/><Relationship Id="rId5" Type="http://schemas.openxmlformats.org/officeDocument/2006/relationships/hyperlink" Target="http://newsworld.cna.com.tw/post/e887aae4bba5e782bae6ada3e7bea9e38080e795b6e5bf83e4babae88289e6909ce7b4a2e8a7b8e6b395.aspx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Arial"/>
                <a:ea typeface="標楷體"/>
              </a:rPr>
              <a:t>網路犯罪問題探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Arial"/>
              </a:rPr>
              <a:t>Ｑ ＆ 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第一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25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林冠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2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林育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34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佩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97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楊世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98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儒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10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旻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1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廖雅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85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陳孝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Arial"/>
                <a:ea typeface="標楷體"/>
              </a:rPr>
              <a:t>摘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台灣何種行為構成網路犯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何判斷網路資訊是否屬實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何在網路討論區發言，卻涉及違法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人肉搜索是否觸擊侵犯他人隱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網路商人犯罪問題，如何解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在台灣何種行為構成網路犯罪？列舉三項構成網路犯罪的行為，並說明如何預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351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網路誹謗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在網路上以文字、圖片造成他人不適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等 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網路詐欺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利用網路購物騙取帳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 或以便宜價格騙取價款，等 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侵害著作權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在網路上張貼散佈他人著作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 、下載他人著作燒錄散佈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該如何判斷網路資訊是否屬實，並正確的使用不至於構成網路犯罪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網路縱使資訊繁多，但是正確性以及來源並不一定是正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網路上面的資訊正確與否還是要靠自己本身的判斷力來明辨才是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人民有言論自由，但為何此網友在網路討論區發言，卻涉及違法，請問該網有有可能涉及什麼樣的法律？小組看法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自由的基礎，是建立在不傷害他人的原則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該名網友可能觸及刑法第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0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恐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危害安全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構成要件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須以加害生命、身體、自由、名譽、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財產之事，恐嚇他人致生危害於安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但若如僅在外揚言傷害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並未對於被害人為惡害之通知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即難成立本罪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網友常以人肉搜索票，搜尋當事人的個人資料，請問此人肉搜索是否觸擊侵犯他人隱私？並說明小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未經當事人同意即公布資料的行為，可能觸犯《民法》第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9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：侵害他人隱私權或名譽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8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部分網友攻擊當事人，進行公然誹謗，可能觸犯《刑法》第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1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：意圖指摘或傳述足以毀損他人名譽的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標楷體"/>
              </a:rPr>
              <a:t>若今天遇到了網路商人犯罪問題，我們有什麼樣的管道與方式解決問題？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35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在購買任何網路上的東西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定要先詳細閱讀他的購買內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選擇有誠信的商家也是提高網路購物安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透夠消保官等多方管道去介入，保障自己的權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標楷體"/>
              </a:rPr>
              <a:t>參考資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eteacher.edu.tw/Read.aspx?PostID</a:t>
            </a:r>
            <a:r>
              <a:rPr b="0" lang="zh-TW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=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://www.drkao.com/paper/paper-6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newsworld.cna.com.tw/post/e887aae4bba5e782bae6ada3e7bea9e38080e795b6e5bf83e4babae88289e6909ce7b4a2e8a7b8e6b395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4:53:46Z</dcterms:created>
  <dc:creator>Win7User</dc:creator>
  <dc:description/>
  <dc:language>en-US</dc:language>
  <cp:lastModifiedBy>Win7User</cp:lastModifiedBy>
  <dcterms:modified xsi:type="dcterms:W3CDTF">2011-11-21T16:08:38Z</dcterms:modified>
  <cp:revision>7</cp:revision>
  <dc:subject/>
  <dc:title>網路犯罪問題探討</dc:title>
</cp:coreProperties>
</file>